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93D-B01A-44E8-AE03-6503323F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9FC-6A45-4CA5-AA83-B2CA661B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17A-EA1D-48ED-B0E1-20A1B4EE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43A-9AC2-4D20-BA96-B4BE7CEC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AA9-CA03-4499-B6E9-3D86DEBF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44E-E8A1-4274-A9C3-951C4DD9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751-4A18-4378-9034-ACA3C641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5FB-3988-4301-8529-3FAE39EF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53B-17F3-4E25-8C51-2973468C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293-E5E6-475C-B178-B0B07AF4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7C0-3E2D-4873-B1AD-6D9EE74D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F31-A727-4154-BDC5-B7301966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70EE-8269-4F2A-86DE-CC89A0E38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410080"/>
            <a:ext cx="1905120" cy="99072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1904760" cy="175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2322360" cy="3224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6172200"/>
            <a:ext cx="1067040" cy="45720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181480"/>
            <a:ext cx="2514600" cy="83844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3124080"/>
            <a:ext cx="1676520" cy="99072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4572000"/>
            <a:ext cx="1523880" cy="30492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5791320"/>
            <a:ext cx="2286000" cy="106668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3733920"/>
            <a:ext cx="1447560" cy="99036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2819520"/>
            <a:ext cx="1600200" cy="68580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981080"/>
            <a:ext cx="1676520" cy="30492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1295280"/>
            <a:ext cx="1600200" cy="1067040"/>
          </a:xfrm>
          <a:prstGeom prst="rect">
            <a:avLst/>
          </a:prstGeom>
          <a:solidFill>
            <a:srgbClr val="eaee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Classic"/>
              </a:rPr>
              <a:t>DCS A-10C Warthog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AS Cougar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Speedbrak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2335320" cy="324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315200" y="1295280"/>
            <a:ext cx="1676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H1-Aircraft Tr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: Trim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: Trim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: Left Wing 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: Right Wing 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0120" y="373392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H3-DMS Data Mg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: DMS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: DMS 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: DMS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: DM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518148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S3- Multi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D: Nose Wheel Steering On/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S: Laser On/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:   Refuel Dis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617220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S4-Auto Pi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gle On/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45720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TG1/2-Fire Cann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281952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S1 - Master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: Toggle H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:  AA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5853240"/>
            <a:ext cx="236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H4-Counter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: CMS Start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: CMS Stop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: CMS Nex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: CMS Previous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19810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S2-Weapon Rel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12408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H2-TMS Target Mg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: TMS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: TMS 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: TMS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: TM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4419720"/>
            <a:ext cx="2133720" cy="60948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44197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Speedbr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9 - Speed Brakes Extend T10 - Speed Brakes Re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066680"/>
            <a:ext cx="1905120" cy="99072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0666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Coolie 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2 - Up: Coolie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3 - Down: Coolie 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4 - Right: Coolie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5 - Left: Coolie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2819520"/>
            <a:ext cx="1600200" cy="60948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281952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China 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7 – China 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8 – China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54100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Target Designation C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w Up: TDC 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w Down: TDC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w Left: TDC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w Right: TDC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20:31:37Z</dcterms:created>
  <dc:creator>Dale Schmidtbleicher</dc:creator>
  <dc:description/>
  <dc:language>en-US</dc:language>
  <cp:lastModifiedBy>Dale Schmidtbleicher</cp:lastModifiedBy>
  <dcterms:modified xsi:type="dcterms:W3CDTF">2011-04-18T22:04:47Z</dcterms:modified>
  <cp:revision>27</cp:revision>
  <dc:subject/>
  <dc:title>DCS A-10C Warthog HOTAS Cougar  Dale “Speedbrake” Schmidtbleicher</dc:title>
</cp:coreProperties>
</file>